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598-5F33-4DEA-B5A7-20FC5063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B16-E1DF-41E1-86AE-4E46EB29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929-6B2A-49FD-ABBB-A1EEF602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8D1-EFF3-4E78-9893-1AA39D87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BF23-B9E1-48A5-8C24-C34E039A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05B6-9D5D-49D2-8923-6E92E817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34A3-797A-4F50-9FF0-17A14060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C815-D235-4BD5-8066-29A68954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FC76-D40C-41DD-B96C-DC05E594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5EC2-100A-43D6-AAA8-00C9CD8B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2243-8A50-4B59-A20A-0578DAA5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A3B-D27D-4141-9058-0D8509ED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8627-D8BC-4AF8-BC82-3F4F85FF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12E9-13FF-45F3-8C9F-79E75089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6A3E-4E1F-42E9-9218-3BF30EAD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4AF8-05D7-4300-B3DE-0ABEF846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24F5-1C7E-47E4-8725-B5596826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913-041A-4C0B-96EB-D79C7008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E0D-B533-4A03-9F7E-64F79B85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FBD-E909-4027-8379-39BAC9DA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50C-FA11-4A75-A6AA-5D5DA567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702-D59F-4B4C-A317-62B34493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379-C938-4AEB-B6D0-C65FE1B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DEF-70F1-4A1F-913D-BC838188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E9FD-C11D-4B1B-ACDA-0DDADFDE6F67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373392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CDFB-48C3-43E9-9B0C-F3B81AD1134A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SzPct val="7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o Tell The Good News – Part 1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Quarter 11, Lesson 11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cts 12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ages 61-64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0ABB-722B-4701-97F8-37BA61A5DADF}" type="slidenum">
              <a:t>1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ringing Us Back Up To Dat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Work Begins – Acts 1-2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e Day of Pentecost – Acts 2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3000 Convicted and Converted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nflict Begins – Acts 3-7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Jewish Persecu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toning of Stephe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Church is Scattered – Acts 8-12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amaritans converte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entiles Converte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4A2-DAB1-47B4-8078-8F92EB9D60B6}" type="slidenum">
              <a:t>2</a:t>
            </a:fld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c03"/>
                </a:solidFill>
                <a:latin typeface="Impact"/>
              </a:rPr>
              <a:t>Roman Emperor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ugusta Caesar – 31 B.C. to A.D. 14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iberius Caesar – A.D. 14-37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ligula – A.D. 37-41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audius – A.D. 41-54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HERE at 44 A.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ero – A.D. 54-68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Vespasian – A.D. 69-79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258-0F9B-4350-97F2-D03458167ED0}" type="slidenum">
              <a:t>3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643720" y="685800"/>
            <a:ext cx="3289320" cy="5105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91320" y="58672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grippa kills James and imprisons Peter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F53-3E54-46AF-BB7C-37B5655B574F}" type="slidenum">
              <a:t>4</a:t>
            </a:fld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 New Wave of Persecu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rod Agrippa I tried to please the Jews – 44 A.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James, the brother of John, is the first apostle to be executed – Acts 12:2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eter was taken prisoner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 miraculous deliverance – the power of pray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 comforted group of discipl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 worm-eaten “god” received justic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Victory is with the Lamb of God – The gospel spread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24C-DEC1-4F10-9E33-B9ACFEB1CDAC}" type="slidenum">
              <a:t>5</a:t>
            </a:fld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he Death of Herod</a:t>
            </a:r>
            <a:br>
              <a:rPr sz="44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Acts 12:20-24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rod Agrippa I had cut off the food supply to Phoenici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ey sent representatives to make peace with Hero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ey made friends with Blastu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rod was going to drop the hostiliti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t a date for a hearing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ressed himself in royal appar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de an arousing speech of concilia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eople called him a god, not a ma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016-3022-4FB3-8617-AEF27DEFD9CE}" type="slidenum">
              <a:t>6</a:t>
            </a:fld>
          </a:p>
        </p:txBody>
      </p:sp>
    </p:spTree>
  </p:cSld>
  <p:transition>
    <p:comb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he Death of Herod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Acts 12:20-24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n angel of God smote Hero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rod had accepted the glory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 was eaten with worm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 died 5 days lat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word of God gained many convert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D35-7220-4B22-868B-946CF615FCA5}" type="slidenum">
              <a:t>7</a:t>
            </a:fld>
          </a:p>
        </p:txBody>
      </p:sp>
    </p:spTree>
  </p:cSld>
  <p:transition>
    <p:comb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arnabas &amp; Saul Return to Antioch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 Acts 12:25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ir mission was accomplishe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ey had taken the collection from Antioch to elders in Jerusalem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When they returned, they took Mark with the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eter had gone to his mother’s house – 12:12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rk wrote the book which bears his nam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B47-624F-4D93-B4BC-85C8EE76E17B}" type="slidenum">
              <a:t>8</a:t>
            </a:fld>
          </a:p>
        </p:txBody>
      </p:sp>
    </p:spTree>
  </p:cSld>
  <p:transition>
    <p:comb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 Change of Focus...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rom Jerusalem to Antioch  of Syri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rom Peter to Pau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hapter 13 is the changing poi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nd remember...</a:t>
            </a:r>
            <a:endParaRPr b="0" lang="en-US" sz="4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5720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...But ye shall receive power, after that the Holy Ghost is come upon you: and ye shall be witnesses unto me both in Jerusalem, and in all Judea, and in Samaria, and unto the uttermost part of the earth. 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- Acts 1:8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6F9-BB3E-4622-A102-12140DEFB2D1}" type="slidenum">
              <a:t>9</a:t>
            </a:fld>
          </a:p>
        </p:txBody>
      </p:sp>
    </p:spTree>
  </p:cSld>
  <p:transition>
    <p:comb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3:09:18Z</dcterms:created>
  <dc:creator>Terry W. Benton</dc:creator>
  <dc:description/>
  <dc:language>en-US</dc:language>
  <cp:lastModifiedBy>Frank D Vines</cp:lastModifiedBy>
  <dcterms:modified xsi:type="dcterms:W3CDTF">2007-02-11T14:25:33Z</dcterms:modified>
  <cp:revision>9</cp:revision>
  <dc:subject/>
  <dc:title>Go Tell The Good News – Part 1</dc:title>
</cp:coreProperties>
</file>